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6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6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 type="sldNum" idx="6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256-EFC3-40E2-8E68-70A933B1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ignancy – too much negative experience at the stage, i.e. a person that cannot tr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daptive – too much positive experience at the stage, i.e. a person that trusts too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C18-696E-41CE-87F5-AFA9CD05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00D-349B-4811-89B6-24CBA2BB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BD3-44EB-48E5-9B03-E058E93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47634-FEAD-44EF-842F-FF24638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09EED-F534-4854-AD39-ABA231E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21B9E-A7E0-4C42-AC39-EA968C0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0AE38-5108-4805-8BC3-2CC28C0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22199-76F2-4A89-B474-68775F4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DBAB2-D405-419F-87EE-82940A2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ED824-062E-4E36-A5A5-1D57471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CB338-9DEF-489D-B93A-32F97F8A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928D6-F8FA-4198-A10C-A086F43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33BAF-A2B6-454F-BF17-794039B3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2DC-D014-4E73-8FC0-1963E138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06612-6819-4FA8-83DE-17AD4C2F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8BDDD-5D2A-48D5-80F5-7333E11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2DA34-0AB7-41B1-A327-C616188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9B8FA-9D5D-4040-9D77-00F60C1F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EF268-3EA6-4610-A1CF-5E04C16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4BEED-2DB6-4644-A7E6-679278F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71983-2A85-4C11-B59A-679D3846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0784A-536E-4B97-A74A-B26D687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339B7-59A9-485D-A4C6-04CE350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4F9BB-5149-492C-BBD7-021A52E7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3B2-2ACF-4BFB-8537-5075D062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E2982-A387-4D34-BBEE-198D2E34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50519B-4985-4C7F-A2DF-5CF007C8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F1F3BC-795A-4683-BB66-15C1E52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02CB40-B50F-46C8-B871-2DFBF24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7C55CF-F2DD-4EF1-B87D-78C9F94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7DEDC-8DDE-4E95-8C7D-E51C1931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5D9CAB-1978-4438-BD43-3D4DFF44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20770-62A2-401E-BE92-F2A7455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941859-49FC-4CFB-BD5A-4BBEA1E3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231450-9648-45B1-AEAF-C5363B8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26C352-6825-4B4C-BCC4-340D6E0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0BF4FB-459C-4D97-B03A-42FAD4C2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EAA0D6-EB50-4FE5-8874-CB46F2E3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FEB3D-8CBC-47B7-87CD-38A7A75C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AA44D-6DB0-4B75-B83A-C591321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48827-EE02-46B7-904C-6404489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75ED7-C35B-49C4-9922-405D6A28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D42E4-2B04-4EC5-A2FD-81AEA5E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C06BE-7598-45C2-979C-73845BA3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AB863-F68C-46DD-9FB2-6F17A29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D1B88-9653-4CEF-AAC5-2BA84E1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12B80-4504-4BB4-A713-68C7B6A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F2D91-9741-4488-BF7A-3FE4D15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702B9-E7CF-44D2-BC67-4616D6DD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9F69D-D08D-4D43-9D6D-8E03B07C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E8EA7-7951-4FF0-B396-1434DECA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04C87A-E6B9-43A0-BECD-DF36B802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6820F2-B565-47D7-BEB3-E2C3EBA1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AEA08A-06C1-4758-979D-CC2FFBB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A0C1D3-D89F-4062-A325-D26FB937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2C6199-48A1-4B53-AD57-3FBC0670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CC9CAF-B177-437F-B7A7-53AF571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3FF786-3F5C-42E6-83CA-7A1D3E3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8F8626-5E21-43A4-ABA4-015B856C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1D5E14-2427-472F-9E1D-FDF1D56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197643-18D3-409C-BCE3-A400F51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2133F7-B970-4632-820D-FDACA10F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F2A60-FADC-4209-B553-9A725768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33154-B873-45A1-8BDE-F965294A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DA8AF-4807-40C5-BF0D-E1D9BF9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12DA1-CF61-4EDC-A5B4-ABD8A80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2863A-892D-44CC-8EE9-2FF4306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CF252-5BF1-4B5D-93F2-FD5C65B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3EFA6-1806-40B2-A439-76EEEA5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CEBF4-86C9-4706-B5E2-3EAE3AA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5CC14-4F32-4F8A-A7CB-DAD2E1C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C623F-010C-4D2F-802F-F9B99E6C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5A23F-4FA5-4D56-87C4-015C2A99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7149D-324D-44D1-B440-3C4E4195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29D9B-83F5-4724-9F3D-01AB0478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80640-6CC0-4606-BEA8-51ECB16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6A51F-DB46-48D5-9E85-BF0EBE1C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8369A-4324-4516-BA42-AED4EC8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4E71C-8A06-4E78-B760-D1129EC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31EC6-5661-4AB2-8C52-B9282F4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8C747-6C4C-4916-B510-9374946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87699-152E-406A-9161-51E9B9E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9B781-8AB4-4047-864D-AA025D3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19F2F-7542-4347-8153-7038E41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93EB2-8CF3-4699-9159-4C0BBFB4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05239-404B-4BAA-8823-636B6B74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5B819-B9C6-4CD1-A0C9-40BCF997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40757-8AED-49F5-B01C-F02C6FC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3CF65-AAAF-4401-B640-C2312D10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CADA3-474D-4703-A077-6BD6726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7824C-C3E5-4875-9066-0BF6106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911B3-853C-4495-8279-EF2A622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22887-D270-49DE-BBC9-EB79CFB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3FA-AAE1-46CB-A188-42D3F24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A1480-360C-4112-9B05-8FEBAC1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6F554-7677-49A6-BDB0-1782A75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7EF1F-E2BF-45D4-AD4E-340795D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D7219-B91E-4BA2-BDBE-0D0F72DB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691FB-B3A5-4205-8C94-DC68F1F2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4DBBE-2631-4126-A143-D7BC6592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D221E-BA53-415C-BDAE-2608963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DAEF5-27EB-4CB1-B328-E509F41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5FD0C-3EEE-451A-9880-CA190A9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C7C75-305B-481A-B5C5-72E8A6F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FD9D7-7751-4A9D-A40B-7670C1C4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3A8E8-58DB-46C0-A442-BD93FC9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63653-7134-41E4-8058-68A6068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56BC9-8260-4B63-924A-A0324FC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62661-7702-44C3-A5F8-8BED1030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5F29C-E405-43AD-B00E-1B98A1D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1D5E7-7D66-442C-BC75-ACF9A281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CACF0-718E-4020-84C1-C11211BB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946EB-8CD0-4221-AD04-C1CF6C6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EF07A-6C59-4F84-AACA-3EB8A97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C6940-9059-4794-9B90-101526B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BB28A-BADF-4805-95CC-F346E2BA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A62D2-4D54-4FD4-A2FE-27684385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76B02-A96B-45CD-BE03-CC07D56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42D79-46A6-443F-ADAB-3E508C0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0A78F-EE20-446B-924A-5341866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C86CA-4BA2-4206-BB74-6ADE536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458F5-F7FF-4879-A609-4E6BF12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18A7D-36C6-4C9B-964C-0DBD226B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DC722-B9BB-4FA0-888F-C94A4253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F047B-EE4C-4608-9729-2631EE6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2989E-18C3-497F-81AA-CC7E3AD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24432-F04C-4022-AD5B-D62B5372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3A6EE-90C4-4581-BE2A-96A575DA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42E47-BE08-4B42-80ED-2B04C60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C5CB2-8F91-4A19-A8D3-3086262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8642E-2929-4C0F-93BB-8F4C205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B6E2F-2077-46E5-B50E-A6596BD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A0633-536E-4B2F-B9A9-87E1937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7686D-41E9-4DA7-92C6-D2DC467C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855DA-5CED-4432-A50E-40100B6D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4C4CE-02F3-4F5A-AEF2-4839AC15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CFD36-EFE8-4A26-A019-21BEAF11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6FBC8-48EB-49AB-9040-F7550E76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27023-0F97-4570-8FBA-3E18E411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209C6-42E8-44FF-A0DC-4898AAA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10ABF-5E38-4AF1-B38E-F0816B8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99FE2-8C5E-4A91-9147-43A75E7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9B2D2-C2D5-415E-B9F5-4C5E923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6BB36-5F28-4FC9-93D0-B07B5DC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F83F7-D8C4-454F-BDD4-4D8075B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30114-D3AA-4F79-A607-3F0C689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0E37B-9E6B-4D5F-BC5F-3AA5310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FE7CC-06A9-42D9-B6A3-4812A6CB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D0F7F-5CED-49F9-B2F9-87804C3C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F94D7-564C-4DCE-B522-2ED7BE0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0B77F-03A5-482A-A50C-D0EAA57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88C7F-8CF3-4D25-A539-07E57F1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A2D-9624-4556-B56C-2488B90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F7422-C806-40EF-968F-D750CB1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1313F-B2B6-45E0-8FCB-95F88B7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38582-C76E-4C50-978B-FAA015A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F75DE-3582-41CD-8EDB-4C501779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7920D-7CE1-44EF-B14E-BEE6521F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42782-86D4-4D24-9845-392BE118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65DE8-7828-4B53-B7D6-FD271D87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A343D-EBE5-4C78-867B-4597531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0734C-AC03-4BD9-8C33-5BB659D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68F1A-8EBC-44BB-9370-BEFEE6D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8B7-EE87-49D6-94FC-25FDE68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5A420-E7CA-4AF2-81F2-340D533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385D9-9586-4B8D-961A-9B20CA8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C9D65-F013-49B5-8D3D-34C5CB1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F6015-2644-4FCB-AF39-D020E0E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8DC4F-F9CB-4159-A211-72F3842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65F68-07C4-4814-B7DE-E3003E5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0B73F-4067-4F6B-B010-83E85EE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3867B-CE1E-4EE2-A9EB-4B6D722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41E40-2782-4822-8C51-25C8A9D0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6B1-855C-4341-8B72-67AD6607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306-311C-4E3C-98A0-ED25840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C32C6-CBE9-4605-8DD0-1C1D2F73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C8650-9D38-4564-872C-D65EA6C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0056F-081E-4C95-9CC6-931AC80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EB27B-AC2A-4DC7-A20B-B9CFA98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663850-D991-40CD-A82D-970878C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C4BD7-CD9F-4994-B86F-B577AAF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31697-730C-4F32-A5A9-43FA270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18983-B78F-42EC-8699-CB91C23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34D7C-C6A3-489E-B451-293E24C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C5E-2B43-4E6D-B6A3-75FDB40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47AF9-3EC7-497A-9BD3-F17C8EA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9A5A76-ACC3-4BDB-8D8A-7303E881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3E394-D67E-4F91-BC71-036B5A92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62FDAC-D766-4779-9C15-4F1CD049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11F766-7768-4C3E-908B-08EFD267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3A32E6-637F-4BA5-BC62-D6EC1113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3D9766-4AFF-4C6A-896A-E8983EA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369A8-AD6F-4351-9C8D-87600CB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4ED19-85D3-47D9-BBDA-C7DBFBB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3A59E-04D1-468F-B04F-4117E78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EBA-2C94-40E4-89C5-743E8FE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7FA7D2-D45C-45C6-BCDA-86F80537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915E4-E2C5-4C88-9F43-7679177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32D428-6789-4199-BC1B-F5183E8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C08A4-DE9A-4C65-86C3-0FB3D87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7E98F-92F9-4500-A5A6-78D0FD80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72FF2-475E-4843-AB9B-22005672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95569-A107-4122-906B-DFDE3B4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47C09B-D161-4D9F-9603-4D5AD754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F3F15-78BB-4530-8D08-EEDB1E47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C6CE86-D5B3-4DF7-9B34-182F3DB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AC4-B196-4CEB-863F-6C2252E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724FAB-F804-49D6-8B77-3938F2EE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F03432-3C7E-4D4F-8BBF-DF2B22C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FA1E6-2853-4AD7-8B63-FE611C1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30DD4-C654-4205-B13C-941070F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F9C18-034F-40D3-8D13-9575B7D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72F87-B88E-4175-95CC-63F60FAB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58FF0-F537-4729-86BA-4B02FED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86F9F-9065-43AB-9435-B4028231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BCAB7-6986-467F-8B74-8E3CD1DD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7C470-3533-469B-BF6F-5265345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090-DDA4-46E4-9E0C-C71750C0F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BD4-3F13-4243-8A24-BE01828EB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54E-8548-43D8-A8B6-162E73D89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4D47-23B9-4B2C-A0A8-9E094E893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898-C36A-4E70-B494-A3B9A91F0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7252-B060-4D68-BE66-26C73EEE1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26C8-9B17-43F4-8B19-D913E5C9D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4870-90C2-41DF-B277-5BF86422B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483B-203C-4F7E-A5BF-86A55B661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2F5-6BE5-4599-823C-B90311A23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714-AEA5-497B-BD8B-7B2760DAE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BE4-D809-4BFB-B8CE-ECEBD13C4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7A1D-B3C8-4D75-85CA-085F8E162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556-2F8B-42E8-AA03-0AF63A494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1E6-6D90-4927-933A-157F32C9F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CD68-2AE0-46DC-BFAE-D475BA7B1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D82-F6CC-48FB-9F5F-6E735A7B3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5DD-A37D-420A-B980-EFD581A5D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Module 6</a:t>
            </a:r>
            <a:br>
              <a:rPr sz="2500"/>
            </a:b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Developmental Issues, Prenatal Development, and the Newborn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  <p:sp>
        <p:nvSpPr>
          <p:cNvPr id="919" name="Footer Placeholder 4"/>
          <p:cNvSpPr/>
          <p:nvPr/>
        </p:nvSpPr>
        <p:spPr>
          <a:xfrm>
            <a:off x="631188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3429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52" name="Content Placeholder 5" descr="MMHE_22_259_01_eps.gif"/>
          <p:cNvPicPr/>
          <p:nvPr/>
        </p:nvPicPr>
        <p:blipFill>
          <a:blip r:embed="rId1"/>
          <a:stretch/>
        </p:blipFill>
        <p:spPr>
          <a:xfrm>
            <a:off x="223920" y="1752480"/>
            <a:ext cx="8051760" cy="45720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sp>
        <p:nvSpPr>
          <p:cNvPr id="954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eratogen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56" name="Content Placeholder 5" descr="teratogens1.jpg"/>
          <p:cNvPicPr/>
          <p:nvPr/>
        </p:nvPicPr>
        <p:blipFill>
          <a:blip r:embed="rId1"/>
          <a:stretch/>
        </p:blipFill>
        <p:spPr>
          <a:xfrm>
            <a:off x="609480" y="1430280"/>
            <a:ext cx="7543800" cy="5396040"/>
          </a:xfrm>
          <a:prstGeom prst="rect">
            <a:avLst/>
          </a:prstGeom>
          <a:ln w="0">
            <a:noFill/>
          </a:ln>
        </p:spPr>
      </p:pic>
      <p:sp>
        <p:nvSpPr>
          <p:cNvPr id="957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 Thalidomide Traged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60" name="Content Placeholder 4" descr="pamimg.jpg"/>
          <p:cNvPicPr/>
          <p:nvPr/>
        </p:nvPicPr>
        <p:blipFill>
          <a:blip r:embed="rId1"/>
          <a:stretch/>
        </p:blipFill>
        <p:spPr>
          <a:xfrm>
            <a:off x="1316160" y="2649600"/>
            <a:ext cx="2019240" cy="32763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 txBox="1"/>
          <p:nvPr/>
        </p:nvSpPr>
        <p:spPr>
          <a:xfrm>
            <a:off x="440064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1957-62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rug was used to prevent morning sickness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rth America, Japan, Australia, New Zealand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6800" y="2070000"/>
            <a:ext cx="3657600" cy="324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400640" y="2070000"/>
            <a:ext cx="3657600" cy="324000"/>
          </a:xfrm>
          <a:prstGeom prst="rect">
            <a:avLst/>
          </a:prstGeom>
          <a:solidFill>
            <a:srgbClr val="a3a3c2"/>
          </a:solidFill>
          <a:ln w="0">
            <a:noFill/>
          </a:ln>
        </p:spPr>
        <p:txBody>
          <a:bodyPr lIns="90000" rIns="90000" tIns="46800" bIns="46800" anchor="ctr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 Competent Newbor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9680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ooting reflex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ent of mother’s body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Voi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a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 OBJECT PERMANANCE…YET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7" name="Content Placeholder 8" descr="Root.jpg"/>
          <p:cNvPicPr/>
          <p:nvPr/>
        </p:nvPicPr>
        <p:blipFill>
          <a:blip r:embed="rId1"/>
          <a:stretch/>
        </p:blipFill>
        <p:spPr>
          <a:xfrm>
            <a:off x="4400640" y="2687760"/>
            <a:ext cx="3657600" cy="3198600"/>
          </a:xfrm>
          <a:prstGeom prst="rect">
            <a:avLst/>
          </a:prstGeom>
          <a:ln w="0">
            <a:noFill/>
          </a:ln>
        </p:spPr>
      </p:pic>
      <p:sp>
        <p:nvSpPr>
          <p:cNvPr id="968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96800" y="2070000"/>
            <a:ext cx="3657600" cy="324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400640" y="2070000"/>
            <a:ext cx="3657600" cy="324000"/>
          </a:xfrm>
          <a:prstGeom prst="rect">
            <a:avLst/>
          </a:prstGeom>
          <a:solidFill>
            <a:srgbClr val="a3a3c2"/>
          </a:solidFill>
          <a:ln w="0">
            <a:noFill/>
          </a:ln>
        </p:spPr>
        <p:txBody>
          <a:bodyPr lIns="90000" rIns="90000" tIns="46800" bIns="46800" anchor="ctr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ooter Placeholder 2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Picture 2" descr=""/>
          <p:cNvPicPr/>
          <p:nvPr/>
        </p:nvPicPr>
        <p:blipFill>
          <a:blip r:embed="rId1"/>
          <a:stretch/>
        </p:blipFill>
        <p:spPr>
          <a:xfrm>
            <a:off x="555480" y="941400"/>
            <a:ext cx="8026560" cy="4978440"/>
          </a:xfrm>
          <a:prstGeom prst="rect">
            <a:avLst/>
          </a:prstGeom>
          <a:ln w="0">
            <a:noFill/>
          </a:ln>
        </p:spPr>
      </p:pic>
      <p:sp>
        <p:nvSpPr>
          <p:cNvPr id="973" name="Rectangle 3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142d"/>
                </a:solidFill>
                <a:latin typeface="Times New Roman"/>
              </a:rPr>
              <a:t>Newborns’ Preference for 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Stages of Development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  <p:sp>
        <p:nvSpPr>
          <p:cNvPr id="976" name="Footer Placeholder 1"/>
          <p:cNvSpPr/>
          <p:nvPr/>
        </p:nvSpPr>
        <p:spPr>
          <a:xfrm>
            <a:off x="631188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Jean Piage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78" name="Content Placeholder 4" descr="Piaget_1.jpg"/>
          <p:cNvPicPr/>
          <p:nvPr/>
        </p:nvPicPr>
        <p:blipFill>
          <a:blip r:embed="rId1"/>
          <a:stretch/>
        </p:blipFill>
        <p:spPr>
          <a:xfrm>
            <a:off x="498600" y="2362320"/>
            <a:ext cx="7556400" cy="3382920"/>
          </a:xfrm>
          <a:prstGeom prst="rect">
            <a:avLst/>
          </a:prstGeom>
          <a:ln w="0">
            <a:noFill/>
          </a:ln>
        </p:spPr>
      </p:pic>
      <p:sp>
        <p:nvSpPr>
          <p:cNvPr id="979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81" name="Content Placeholder 7" descr="piage_stages.jpg"/>
          <p:cNvPicPr/>
          <p:nvPr/>
        </p:nvPicPr>
        <p:blipFill>
          <a:blip r:embed="rId1"/>
          <a:stretch/>
        </p:blipFill>
        <p:spPr>
          <a:xfrm>
            <a:off x="304920" y="1503360"/>
            <a:ext cx="8339040" cy="5354640"/>
          </a:xfrm>
          <a:prstGeom prst="rect">
            <a:avLst/>
          </a:prstGeom>
          <a:ln w="0">
            <a:noFill/>
          </a:ln>
        </p:spPr>
      </p:pic>
      <p:sp>
        <p:nvSpPr>
          <p:cNvPr id="982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Eric Erickson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84" name="Content Placeholder 4" descr="erik_e1.gif"/>
          <p:cNvPicPr/>
          <p:nvPr/>
        </p:nvPicPr>
        <p:blipFill>
          <a:blip r:embed="rId1"/>
          <a:stretch/>
        </p:blipFill>
        <p:spPr>
          <a:xfrm>
            <a:off x="228600" y="1143000"/>
            <a:ext cx="7391520" cy="5492880"/>
          </a:xfrm>
          <a:prstGeom prst="rect">
            <a:avLst/>
          </a:prstGeom>
          <a:ln w="0">
            <a:noFill/>
          </a:ln>
        </p:spPr>
      </p:pic>
      <p:sp>
        <p:nvSpPr>
          <p:cNvPr id="985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ntroduction to Two Major Developmental Issu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ntinuity and Stag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ability and Chan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3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tinuity</a:t>
            </a: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	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25" name="Content Placeholder 7" descr="How-To-Start-Seedling-For-Hydroponic.jpg"/>
          <p:cNvPicPr/>
          <p:nvPr/>
        </p:nvPicPr>
        <p:blipFill>
          <a:blip r:embed="rId1"/>
          <a:stretch/>
        </p:blipFill>
        <p:spPr>
          <a:xfrm>
            <a:off x="498600" y="2155680"/>
            <a:ext cx="3657600" cy="3800520"/>
          </a:xfrm>
          <a:prstGeom prst="rect">
            <a:avLst/>
          </a:prstGeom>
          <a:ln w="0">
            <a:noFill/>
          </a:ln>
        </p:spPr>
      </p:pic>
      <p:pic>
        <p:nvPicPr>
          <p:cNvPr id="926" name="Content Placeholder 8" descr="redwood.jpg"/>
          <p:cNvPicPr/>
          <p:nvPr/>
        </p:nvPicPr>
        <p:blipFill>
          <a:blip r:embed="rId2"/>
          <a:stretch/>
        </p:blipFill>
        <p:spPr>
          <a:xfrm>
            <a:off x="4483080" y="2284560"/>
            <a:ext cx="3492360" cy="3543120"/>
          </a:xfrm>
          <a:prstGeom prst="rect">
            <a:avLst/>
          </a:prstGeom>
          <a:ln w="0">
            <a:noFill/>
          </a:ln>
        </p:spPr>
      </p:pic>
      <p:sp>
        <p:nvSpPr>
          <p:cNvPr id="927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ag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29" name="Content Placeholder 5" descr="caterpillar_prolegs.jpg"/>
          <p:cNvPicPr/>
          <p:nvPr/>
        </p:nvPicPr>
        <p:blipFill>
          <a:blip r:embed="rId1"/>
          <a:stretch/>
        </p:blipFill>
        <p:spPr>
          <a:xfrm>
            <a:off x="498600" y="2046240"/>
            <a:ext cx="3657600" cy="4019760"/>
          </a:xfrm>
          <a:prstGeom prst="rect">
            <a:avLst/>
          </a:prstGeom>
          <a:ln w="0">
            <a:noFill/>
          </a:ln>
        </p:spPr>
      </p:pic>
      <p:pic>
        <p:nvPicPr>
          <p:cNvPr id="930" name="Content Placeholder 6" descr="butterfly_yellow-flowers_detail_01.jpg"/>
          <p:cNvPicPr/>
          <p:nvPr/>
        </p:nvPicPr>
        <p:blipFill>
          <a:blip r:embed="rId2"/>
          <a:stretch/>
        </p:blipFill>
        <p:spPr>
          <a:xfrm>
            <a:off x="4433760" y="2133720"/>
            <a:ext cx="4295880" cy="3962160"/>
          </a:xfrm>
          <a:prstGeom prst="rect">
            <a:avLst/>
          </a:prstGeom>
          <a:ln w="0">
            <a:noFill/>
          </a:ln>
        </p:spPr>
      </p:pic>
      <p:sp>
        <p:nvSpPr>
          <p:cNvPr id="931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renatal Developmen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3657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ncep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renatal Developmen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cep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36" name="Content Placeholder 5" descr="conception.jpg"/>
          <p:cNvPicPr/>
          <p:nvPr/>
        </p:nvPicPr>
        <p:blipFill>
          <a:blip r:embed="rId1"/>
          <a:stretch/>
        </p:blipFill>
        <p:spPr>
          <a:xfrm>
            <a:off x="1512720" y="1981080"/>
            <a:ext cx="5527800" cy="4145040"/>
          </a:xfrm>
          <a:prstGeom prst="rect">
            <a:avLst/>
          </a:prstGeom>
          <a:ln w="0">
            <a:noFill/>
          </a:ln>
        </p:spPr>
      </p:pic>
      <p:sp>
        <p:nvSpPr>
          <p:cNvPr id="937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Zygot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40" name="Content Placeholder 4" descr="zygote.gif"/>
          <p:cNvPicPr/>
          <p:nvPr/>
        </p:nvPicPr>
        <p:blipFill>
          <a:blip r:embed="rId1"/>
          <a:stretch/>
        </p:blipFill>
        <p:spPr>
          <a:xfrm>
            <a:off x="498600" y="2671920"/>
            <a:ext cx="3657600" cy="2768400"/>
          </a:xfrm>
          <a:prstGeom prst="rect">
            <a:avLst/>
          </a:prstGeom>
          <a:ln w="0">
            <a:noFill/>
          </a:ln>
        </p:spPr>
      </p:pic>
      <p:pic>
        <p:nvPicPr>
          <p:cNvPr id="941" name="Content Placeholder 6" descr="zygote1.jpg"/>
          <p:cNvPicPr/>
          <p:nvPr/>
        </p:nvPicPr>
        <p:blipFill>
          <a:blip r:embed="rId2"/>
          <a:stretch/>
        </p:blipFill>
        <p:spPr>
          <a:xfrm>
            <a:off x="4400640" y="2227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942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Embryo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44" name="Content Placeholder 8" descr="9-Week_Human_Embryo_from_Ectopic_Pregnancy.jpg"/>
          <p:cNvPicPr/>
          <p:nvPr/>
        </p:nvPicPr>
        <p:blipFill>
          <a:blip r:embed="rId1"/>
          <a:stretch/>
        </p:blipFill>
        <p:spPr>
          <a:xfrm>
            <a:off x="2894040" y="1981080"/>
            <a:ext cx="2765520" cy="4145040"/>
          </a:xfrm>
          <a:prstGeom prst="rect">
            <a:avLst/>
          </a:prstGeom>
          <a:ln w="0">
            <a:noFill/>
          </a:ln>
        </p:spPr>
      </p:pic>
      <p:sp>
        <p:nvSpPr>
          <p:cNvPr id="945" name="Footer Placeholder 4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evelopmen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48" name="Content Placeholder 5" descr="fetaldevelopment.jpg"/>
          <p:cNvPicPr/>
          <p:nvPr/>
        </p:nvPicPr>
        <p:blipFill>
          <a:blip r:embed="rId1"/>
          <a:stretch/>
        </p:blipFill>
        <p:spPr>
          <a:xfrm>
            <a:off x="1295280" y="1438200"/>
            <a:ext cx="6178680" cy="5419800"/>
          </a:xfrm>
          <a:prstGeom prst="rect">
            <a:avLst/>
          </a:prstGeom>
          <a:ln w="0">
            <a:noFill/>
          </a:ln>
        </p:spPr>
      </p:pic>
      <p:sp>
        <p:nvSpPr>
          <p:cNvPr id="949" name="Footer Placeholder 3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Exploring in Modules, Module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0:49:54Z</dcterms:created>
  <dc:creator>bfw</dc:creator>
  <dc:description/>
  <dc:language>en-US</dc:language>
  <cp:lastModifiedBy>MacAdmin Kis</cp:lastModifiedBy>
  <dcterms:modified xsi:type="dcterms:W3CDTF">2008-09-02T20:55:24Z</dcterms:modified>
  <cp:revision>12</cp:revision>
  <dc:subject/>
  <dc:title>Module 7, Prenatal Development and the Newborn</dc:title>
</cp:coreProperties>
</file>